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D99-B481-466C-8CEE-8ECFB20B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F7C-31A4-4499-9DA3-1EC4D6E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583-FA44-4CC7-B2ED-6B44001D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5BF-B710-491B-8AEF-E7332D3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989-1498-4A11-9E12-1233C6F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68D-BE1D-4172-8EA0-B6686A41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E3B-3722-4BD4-9E81-0AC0C24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FCA-A357-4B68-A8E5-7ED389B0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CD-1966-4F05-8D4C-7638BDBE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991-F240-4CB4-BE03-0926D0C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014-6545-41A1-B598-78111C5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706-3466-45FF-A72D-5364ABE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622B-DC12-47A3-ADDC-70820E7F4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69608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3794"/>
                </a:moveTo>
                <a:lnTo>
                  <a:pt x="19079" y="10800"/>
                </a:lnTo>
                <a:lnTo>
                  <a:pt x="50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69608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3794"/>
                </a:moveTo>
                <a:lnTo>
                  <a:pt x="19079" y="10800"/>
                </a:lnTo>
                <a:lnTo>
                  <a:pt x="50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6:03:08Z</dcterms:created>
  <dc:creator>Cheryl Briggs</dc:creator>
  <dc:description/>
  <dc:language>en-US</dc:language>
  <cp:lastModifiedBy>Cheryl Briggs</cp:lastModifiedBy>
  <dcterms:modified xsi:type="dcterms:W3CDTF">2006-07-21T16:08:04Z</dcterms:modified>
  <cp:revision>1</cp:revision>
  <dc:subject/>
  <dc:title>Slide 1</dc:title>
</cp:coreProperties>
</file>